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9B84B-5CE0-4DEF-B84D-53CBF90C7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11A86-114C-4D31-979D-30A9615B1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1E1FE-3438-4EB9-8BB7-A440AF8C8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A1064-1995-4855-883B-874F68E9A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A5583-0FBA-4F01-9A00-1989A3E4E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C4E50-E762-4FFD-B8B7-B2CA71C2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6452-E4F2-4CEB-A1F0-C517D17C7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EBDB4-6B34-466B-B038-88828ABC8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2840-C21F-4841-B8B7-09288E84B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1140-D861-4581-ABED-A4121580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6EAA-1FDE-4D18-A3DC-51D4F8950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35DE-8966-4701-AC02-4B9A5DAA6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5E48-FB4C-46E1-8376-704EBFB2578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and Tagxedo</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ron Baxley and Nicole D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Unit Review/Preview Posters</a:t>
            </a:r>
            <a:r>
              <a:rPr b="0" lang="en-US" sz="3200" spc="-1" strike="noStrike">
                <a:solidFill>
                  <a:srgbClr val="ffffff"/>
                </a:solidFill>
                <a:latin typeface="Tahoma"/>
              </a:rPr>
              <a:t>: Students can create KWL charts on what they would like to learn and find out about a given topic. Alternatively, create word clouds at the end of a unit to summarize the key learning points or vocabulary from a given topi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Historical Document Analysi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you ever wondered what the Magna Carta or Declaration of Independence would look like when pasted into Wordle? Try it and see. There will be lots of talking points from the resulting word cloud. What do you predict you will see? What themes can you identify? How does the word cloud fit in with the historical context of the docu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dl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wordle.ne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CREAT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text box, paste the words you typed in your Word documen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create the Wordle, click on GO.</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e times a word is typed in the text box, the bigger it will appear in the Wordle. For example, a word typed 5 times will be larger than a word typed onc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keep words together, use a tilde (~). You can find the tilde in the top left of your keyboard. For example, if you want “George Washington” to stay together in the Wordle, you need to type George~Washington.</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the Wordle appears, you can change the font, the layout, and the colors.</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ake your own color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COLOR.</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EDIT CUSTOM PALETTE.</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en you click on the squares of color, a rainbow color palette will appear. You can pick the four colors that you like.</a:t>
            </a:r>
            <a:endParaRPr b="0" lang="en-US" sz="10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the computer you are using is connected to a color printer, you can print by using the PRINT button underneath the Wordle. If you are not connected to a color printer, your Wordle will be printed in black and whit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similar to Wordle but enables users to manipulate and customize the shape and visual features of the clou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8" name="PlaceHolder 2"/>
          <p:cNvSpPr>
            <a:spLocks noGrp="1"/>
          </p:cNvSpPr>
          <p:nvPr>
            <p:ph/>
          </p:nvPr>
        </p:nvSpPr>
        <p:spPr>
          <a:xfrm>
            <a:off x="457200" y="1676160"/>
            <a:ext cx="8229600" cy="4724280"/>
          </a:xfrm>
          <a:prstGeom prst="rect">
            <a:avLst/>
          </a:prstGeom>
          <a:noFill/>
          <a:ln w="0">
            <a:noFill/>
          </a:ln>
        </p:spPr>
        <p:txBody>
          <a:bodyPr anchor="t">
            <a:normAutofit fontScale="98000"/>
          </a:bodyPr>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gxedo</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tagxedo.com</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on CREATE.</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the left sidebar, click on LOAD.</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box where it says ENTER TEXT, paste the words you typed in your Word documen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Submi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text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 change the colors, click on the arrow next to THEM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your choice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can close the theme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can change the font and orientation the same way you changed the colors. Click on the arrows next to those options.</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nder OPTIONS, you can change the SHAP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the arrow.</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the shape option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box by clicking on the X.</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click on INVERT, then the shape is left empty, and the words fill in around the shape.</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ar the top of the sidebar, under LOAD, you will find options to SAVE and PRINT your Tagxedo.</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SAVE, make sure to save your Tagxedo as a JPG.</a:t>
            </a:r>
            <a:endParaRPr b="0" lang="en-US" sz="12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ordle.net/galler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gxedo.com/gallery.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http://www.wordle.net)</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ree tool that creates word clouds from text provided by the user.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can be from an original source, or from a UR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es word clouds and gives greater prominence to words that appear most frequentl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hange font, color and layou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ave by taking a screenshot, printing out, or save to a public libr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 </a:t>
            </a: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narrativ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rite, or copy and paste, a personal narrative into Wordle. Students will be able to see what is important to their peers from the words that are produced from the Wordle word clouds. Compare the words that are used most often by boys, or girls, by age group, or by class/grade level. These Wordle lessons make great displays outside a classro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Speech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ter the text of a famous historical speech into Wordle. Analyze the results by looking at the most commonly used words, or even the words that are not used. What does this tell us about the orator and their intentions? Go to http://www.historyplace.com/speeches/previous.htm orhttp://www.americanrhetoric.com/top100speechesall.html for a list of historical speeches you may want to get started wi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Polls: Instead of your traditional bar graph or pictograph, try using Wordle to organize your data. What is the favorite activity in your class? Have all students take turns at entering their favorite activity in to Wordle and generate the resulting cloud. Bigger words = more popular activities. Can use after a test to see what was difficult and if there is a common theme, or what activities in class students would like to see utilized in cla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se Wordle as a compare and contrast tool. Compare and contrast the word clouds of two or more students' writing, famous speeches, song lyrics, news reports, book reviews or whatever else you may need to compare in your classroom stud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urrent Affairs Analysis</a:t>
            </a:r>
            <a:r>
              <a:rPr b="0" lang="en-US" sz="3200" spc="-1" strike="noStrike">
                <a:solidFill>
                  <a:srgbClr val="ffffff"/>
                </a:solidFill>
                <a:latin typeface="Tahoma"/>
              </a:rPr>
              <a:t>: Copy and paste a news story into Wordle. What could the story have been about? Can you guess what the headline would have been? Where could have it taken place? These questions and more make this a worthy discussion exercis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ordle Word Walls</a:t>
            </a:r>
            <a:r>
              <a:rPr b="0" lang="en-US" sz="2800" spc="-1" strike="noStrike">
                <a:solidFill>
                  <a:srgbClr val="ffffff"/>
                </a:solidFill>
                <a:latin typeface="Tahoma"/>
              </a:rPr>
              <a:t>: Brighten up your word walls with this fun idea. Students can brainstorm synonyms, antonyms, or definitions for their list of vocabulary words. Add your word clouds to your existing word wall work to help stimulate those higher thinking skills in your students. Keep a tally of the targeted vocabulary words that the students use in speech on a daily basis, and add them to a Wordle cloud to show which are used most oft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17:57:08Z</dcterms:created>
  <dc:creator>Bladen County Schools</dc:creator>
  <dc:description/>
  <dc:language>en-US</dc:language>
  <cp:lastModifiedBy>bcsuser</cp:lastModifiedBy>
  <dcterms:modified xsi:type="dcterms:W3CDTF">2012-04-04T20:40:26Z</dcterms:modified>
  <cp:revision>6</cp:revision>
  <dc:subject/>
  <dc:title>Wordle and Tagxedo</dc:title>
</cp:coreProperties>
</file>